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47628-D905-4B5D-AE79-0B40305DB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447560"/>
            <a:ext cx="7239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3676320"/>
            <a:ext cx="7239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74E64-9671-43EB-9EFD-F2E0A6F4C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447560"/>
            <a:ext cx="3532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33320" y="1447560"/>
            <a:ext cx="3532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3676320"/>
            <a:ext cx="3532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233320" y="3676320"/>
            <a:ext cx="3532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7B662-C9E2-4C7C-B6F0-B50269894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447560"/>
            <a:ext cx="23306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71160" y="1447560"/>
            <a:ext cx="23306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18800" y="1447560"/>
            <a:ext cx="23306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3676320"/>
            <a:ext cx="23306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971160" y="3676320"/>
            <a:ext cx="23306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18800" y="3676320"/>
            <a:ext cx="23306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F4709-3819-420B-AB1E-491B3715D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447560"/>
            <a:ext cx="72392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FAC8D-DE7A-4C76-B0CD-E9239FF23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447560"/>
            <a:ext cx="7239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F917A-D817-43AB-B95C-0528871E4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447560"/>
            <a:ext cx="35326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233320" y="1447560"/>
            <a:ext cx="35326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294AB-8CDA-43EB-ADED-8EE5F296B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07E09-6234-4975-A275-813C82BDC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819160" y="228600"/>
            <a:ext cx="6172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85F2A-54C8-484C-907B-1C894958D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447560"/>
            <a:ext cx="3532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33320" y="1447560"/>
            <a:ext cx="35326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3676320"/>
            <a:ext cx="3532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864DB-76F9-4260-93F9-74343BC12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447560"/>
            <a:ext cx="35326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33320" y="1447560"/>
            <a:ext cx="3532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233320" y="3676320"/>
            <a:ext cx="3532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CB29F-3E4F-4AB1-8CF9-8F7361A61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447560"/>
            <a:ext cx="3532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33320" y="1447560"/>
            <a:ext cx="3532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3676320"/>
            <a:ext cx="7239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01137-4A61-4951-9A42-BEC790DDD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520" y="1447560"/>
            <a:ext cx="7239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0284D-AB31-446A-AFAE-10C4C497D1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Welcom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523520" y="2133360"/>
            <a:ext cx="723924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rketing Using FTD Mercu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What does the Marketing Offer?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523520" y="1447560"/>
            <a:ext cx="7239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sy execution of market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st and time sav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keting to both customers and recipi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er 50 pre-built letter, postcard and email templ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mpaign ana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Demonstration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523520" y="1447560"/>
            <a:ext cx="7239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let’s show you have to run a few campaign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rect mail campa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ail marketing campa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eduling a marketing campa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2T14:25:45Z</dcterms:created>
  <dc:creator>MTAC3740</dc:creator>
  <dc:description/>
  <dc:language>en-US</dc:language>
  <cp:lastModifiedBy>MTAC3740</cp:lastModifiedBy>
  <dcterms:modified xsi:type="dcterms:W3CDTF">2008-09-12T14:56:44Z</dcterms:modified>
  <cp:revision>2</cp:revision>
  <dc:subject/>
  <dc:title>Slide 1</dc:title>
</cp:coreProperties>
</file>